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624-9AFF-4D6D-8E1F-CF42F655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B17-1147-4ECC-AC10-4889F7BA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238-343C-411A-9B5C-2D13DA3A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19C-3C4D-439F-9428-55FC543A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67A-E3B5-45B8-944F-DF1CBCF6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B5D-5572-4054-B186-FBC016B5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184-C9D2-4029-B690-50BFC093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37C-5BEF-4029-AC6B-97F04093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40A-AE55-42A6-B116-D8DCB29E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F22-8049-4F69-8C52-7ECD9D6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300-3411-4079-AE0C-2F3320EA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614-D527-41D3-BEAD-8B85CA6D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7F00-6A15-4924-A24B-63406698A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uo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uo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uo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uo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uo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uo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uo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uo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uo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uo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uo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9:40:55Z</dcterms:created>
  <dc:creator>fabio.medessi</dc:creator>
  <dc:description/>
  <dc:language>en-US</dc:language>
  <cp:lastModifiedBy>fabio.medessi</cp:lastModifiedBy>
  <dcterms:modified xsi:type="dcterms:W3CDTF">2010-08-10T10:01:10Z</dcterms:modified>
  <cp:revision>3</cp:revision>
  <dc:subject/>
  <dc:title>Presentazione di PowerPoint</dc:title>
</cp:coreProperties>
</file>